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704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65720" y="141300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704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65720" y="4008240"/>
            <a:ext cx="2712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3516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480" y="400824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413000"/>
            <a:ext cx="4111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008240"/>
            <a:ext cx="8424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2340000" y="549360"/>
          <a:ext cx="355680" cy="57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549360"/>
                    <a:ext cx="3556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2089080" cy="57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56000" y="549000"/>
            <a:ext cx="6408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2268360" y="28440"/>
            <a:ext cx="14472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08720" y="6717960"/>
            <a:ext cx="341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e3e5c"/>
                </a:solidFill>
                <a:latin typeface="Arial"/>
              </a:rPr>
              <a:t>(cc) Frank Bergmann, Brian Fenton, http://tinycog.sourceforge.net/ </a:t>
            </a:r>
            <a:r>
              <a:rPr b="0" lang="en-US" sz="700" spc="-1" strike="noStrike">
                <a:solidFill>
                  <a:srgbClr val="3e3e5c"/>
                </a:solidFill>
                <a:latin typeface="Arial"/>
              </a:rPr>
              <a:t> </a:t>
            </a:r>
            <a:fld id="{4171B0B7-5B80-4E9C-8853-3F9F1F53281D}" type="slidenum">
              <a:rPr b="0" lang="en-US" sz="7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57120" y="1130040"/>
            <a:ext cx="645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3333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e3e5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19480" y="907920"/>
            <a:ext cx="4628880" cy="152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08720" y="6717960"/>
            <a:ext cx="341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e3e5c"/>
                </a:solidFill>
                <a:latin typeface="Arial"/>
              </a:rPr>
              <a:t>(cc) Frank Bergmann, Brian Fenton, http://tinycog.sourceforge.net/ </a:t>
            </a:r>
            <a:r>
              <a:rPr b="0" lang="en-US" sz="700" spc="-1" strike="noStrike">
                <a:solidFill>
                  <a:srgbClr val="3e3e5c"/>
                </a:solidFill>
                <a:latin typeface="Arial"/>
              </a:rPr>
              <a:t> </a:t>
            </a:r>
            <a:fld id="{F5C0F124-2519-4B4A-8625-BA7409681126}" type="slidenum">
              <a:rPr b="0" lang="en-US" sz="700" spc="-1" strike="noStrike">
                <a:solidFill>
                  <a:srgbClr val="3e3e5c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ber@fraber.de" TargetMode="External"/><Relationship Id="rId2" Type="http://schemas.openxmlformats.org/officeDocument/2006/relationships/hyperlink" Target="mailto:brian.fenton@gmail.com" TargetMode="External"/><Relationship Id="rId3" Type="http://schemas.openxmlformats.org/officeDocument/2006/relationships/hyperlink" Target="http://tinycog.sourceforge.net/" TargetMode="External"/><Relationship Id="rId4" Type="http://schemas.openxmlformats.org/officeDocument/2006/relationships/hyperlink" Target="http://tinycog.sourceforge.net/" TargetMode="External"/><Relationship Id="rId5" Type="http://schemas.openxmlformats.org/officeDocument/2006/relationships/hyperlink" Target="http://tinycog.sourceforge.net/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3867120"/>
            <a:ext cx="70678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4800" spc="-1" strike="noStrike">
                <a:solidFill>
                  <a:srgbClr val="3e3e5c"/>
                </a:solidFill>
                <a:latin typeface="Tahoma"/>
              </a:rPr>
              <a:t>Scene Based Reasoning</a:t>
            </a:r>
            <a:br>
              <a:rPr sz="48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Cognitive Architectur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Frank Bergmann,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1"/>
              </a:rPr>
              <a:t>fraber@fraber.de</a:t>
            </a:r>
            <a:br>
              <a:rPr sz="2000"/>
            </a:b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Brian Fenton,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2"/>
              </a:rPr>
              <a:t>brian.fenton@gmail.com</a:t>
            </a:r>
            <a:br>
              <a:rPr sz="2000"/>
            </a:b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4"/>
              </a:rPr>
              <a:t>tinycog.sourceforge.net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ahoma"/>
                <a:hlinkClick r:id="rId5"/>
              </a:rPr>
              <a:t>/</a:t>
            </a:r>
            <a:endParaRPr b="1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84360" y="441360"/>
            <a:ext cx="6444360" cy="3453480"/>
            <a:chOff x="1584360" y="441360"/>
            <a:chExt cx="6444360" cy="3453480"/>
          </a:xfrm>
        </p:grpSpPr>
        <p:sp>
          <p:nvSpPr>
            <p:cNvPr id="122" name=""/>
            <p:cNvSpPr/>
            <p:nvPr/>
          </p:nvSpPr>
          <p:spPr>
            <a:xfrm>
              <a:off x="3574800" y="1542240"/>
              <a:ext cx="3456720" cy="1779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8480" y="222120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8480" y="279612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1000" y="1646280"/>
              <a:ext cx="324648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2134440" y="1986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6693120" y="198432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81920" y="965160"/>
              <a:ext cx="544500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139760" y="1986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0" name=""/>
            <p:cNvCxnSpPr/>
            <p:nvPr/>
          </p:nvCxnSpPr>
          <p:spPr>
            <a:xfrm flipV="1">
              <a:off x="2368800" y="2427840"/>
              <a:ext cx="369720" cy="3240"/>
            </a:xfrm>
            <a:prstGeom prst="curvedConnector5">
              <a:avLst>
                <a:gd name="adj1" fmla="val 49317"/>
                <a:gd name="adj2" fmla="val 50000"/>
                <a:gd name="adj3" fmla="val 49317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31" name=""/>
            <p:cNvSpPr/>
            <p:nvPr/>
          </p:nvSpPr>
          <p:spPr>
            <a:xfrm>
              <a:off x="2579040" y="965160"/>
              <a:ext cx="544500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4360" y="441360"/>
              <a:ext cx="643788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965160"/>
              <a:ext cx="643788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4360" y="3423960"/>
              <a:ext cx="6440040" cy="47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rot="5400000">
              <a:off x="2606040" y="3345480"/>
              <a:ext cx="681840" cy="324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6" name=""/>
            <p:cNvCxnSpPr/>
            <p:nvPr/>
          </p:nvCxnSpPr>
          <p:spPr>
            <a:xfrm rot="5400000">
              <a:off x="6113880" y="339660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7" name=""/>
            <p:cNvCxnSpPr/>
            <p:nvPr/>
          </p:nvCxnSpPr>
          <p:spPr>
            <a:xfrm rot="5400000">
              <a:off x="7005240" y="151488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38" name=""/>
            <p:cNvCxnSpPr/>
            <p:nvPr/>
          </p:nvCxnSpPr>
          <p:spPr>
            <a:xfrm rot="5400000">
              <a:off x="1504440" y="334584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39" name=""/>
            <p:cNvSpPr/>
            <p:nvPr/>
          </p:nvSpPr>
          <p:spPr>
            <a:xfrm flipV="1">
              <a:off x="6768000" y="1906920"/>
              <a:ext cx="0" cy="183276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V="1" rot="10800000">
              <a:off x="7763040" y="650880"/>
              <a:ext cx="1080" cy="1205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7640" y="3824280"/>
            <a:ext cx="360036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0033"/>
                </a:solidFill>
                <a:latin typeface="Tahoma"/>
              </a:rPr>
              <a:t>Examples of Scenes representing Self-Models: Plan &amp; DL-TBox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427640" y="1413000"/>
            <a:ext cx="446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Modalities examples: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My goal is ...“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3e3e5c"/>
                </a:solidFill>
                <a:latin typeface="Tahoma"/>
              </a:rPr>
              <a:t>I believe that...“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Explicit representation of data-structures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No need to use modal or higher order logic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e3e5c"/>
                </a:solidFill>
                <a:latin typeface="Tahoma"/>
              </a:rPr>
              <a:t>Apply the same reasoning engine as to object-level data</a:t>
            </a:r>
            <a:endParaRPr b="0" lang="en-US" sz="2800" spc="-1" strike="noStrike">
              <a:solidFill>
                <a:srgbClr val="3e3e5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76560" y="1484280"/>
            <a:ext cx="4205520" cy="2127240"/>
            <a:chOff x="376560" y="1484280"/>
            <a:chExt cx="4205520" cy="2127240"/>
          </a:xfrm>
        </p:grpSpPr>
        <p:grpSp>
          <p:nvGrpSpPr>
            <p:cNvPr id="462" name=""/>
            <p:cNvGrpSpPr/>
            <p:nvPr/>
          </p:nvGrpSpPr>
          <p:grpSpPr>
            <a:xfrm>
              <a:off x="376560" y="1484280"/>
              <a:ext cx="4205520" cy="2127240"/>
              <a:chOff x="376560" y="1484280"/>
              <a:chExt cx="4205520" cy="2127240"/>
            </a:xfrm>
          </p:grpSpPr>
          <p:sp>
            <p:nvSpPr>
              <p:cNvPr id="463" name=""/>
              <p:cNvSpPr/>
              <p:nvPr/>
            </p:nvSpPr>
            <p:spPr>
              <a:xfrm>
                <a:off x="647640" y="1484280"/>
                <a:ext cx="3600360" cy="212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64" name=""/>
              <p:cNvCxnSpPr>
                <a:stCxn id="465" idx="2"/>
                <a:endCxn id="466" idx="3"/>
              </p:cNvCxnSpPr>
              <p:nvPr/>
            </p:nvCxnSpPr>
            <p:spPr>
              <a:xfrm>
                <a:off x="1302120" y="2699640"/>
                <a:ext cx="325440" cy="453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sp>
            <p:nvSpPr>
              <p:cNvPr id="467" name=""/>
              <p:cNvSpPr/>
              <p:nvPr/>
            </p:nvSpPr>
            <p:spPr>
              <a:xfrm>
                <a:off x="1761480" y="1580760"/>
                <a:ext cx="1306800" cy="45900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Dinner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68" name=""/>
              <p:cNvCxnSpPr>
                <a:stCxn id="465" idx="3"/>
                <a:endCxn id="469" idx="1"/>
              </p:cNvCxnSpPr>
              <p:nvPr/>
            </p:nvCxnSpPr>
            <p:spPr>
              <a:xfrm flipV="1">
                <a:off x="1761120" y="2496600"/>
                <a:ext cx="132840" cy="684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70" name=""/>
              <p:cNvCxnSpPr>
                <a:stCxn id="467" idx="2"/>
                <a:endCxn id="465" idx="0"/>
              </p:cNvCxnSpPr>
              <p:nvPr/>
            </p:nvCxnSpPr>
            <p:spPr>
              <a:xfrm flipH="1">
                <a:off x="1301760" y="2039760"/>
                <a:ext cx="1114920" cy="264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1" name=""/>
              <p:cNvCxnSpPr>
                <a:stCxn id="467" idx="2"/>
                <a:endCxn id="472" idx="0"/>
              </p:cNvCxnSpPr>
              <p:nvPr/>
            </p:nvCxnSpPr>
            <p:spPr>
              <a:xfrm>
                <a:off x="2416680" y="2039760"/>
                <a:ext cx="193680" cy="26460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3" name=""/>
              <p:cNvCxnSpPr>
                <a:stCxn id="467" idx="2"/>
                <a:endCxn id="474" idx="0"/>
              </p:cNvCxnSpPr>
              <p:nvPr/>
            </p:nvCxnSpPr>
            <p:spPr>
              <a:xfrm>
                <a:off x="2416680" y="2039400"/>
                <a:ext cx="1369440" cy="2584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5" name=""/>
              <p:cNvCxnSpPr>
                <a:stCxn id="465" idx="2"/>
              </p:cNvCxnSpPr>
              <p:nvPr/>
            </p:nvCxnSpPr>
            <p:spPr>
              <a:xfrm flipH="1">
                <a:off x="1105920" y="2699280"/>
                <a:ext cx="196200" cy="3898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6" name=""/>
              <p:cNvCxnSpPr>
                <a:stCxn id="472" idx="2"/>
              </p:cNvCxnSpPr>
              <p:nvPr/>
            </p:nvCxnSpPr>
            <p:spPr>
              <a:xfrm flipH="1">
                <a:off x="2478240" y="2699280"/>
                <a:ext cx="131040" cy="38988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7" name=""/>
              <p:cNvCxnSpPr>
                <a:stCxn id="472" idx="2"/>
              </p:cNvCxnSpPr>
              <p:nvPr/>
            </p:nvCxnSpPr>
            <p:spPr>
              <a:xfrm flipH="1">
                <a:off x="2349360" y="2699640"/>
                <a:ext cx="260640" cy="26064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78" name=""/>
              <p:cNvCxnSpPr>
                <a:stCxn id="479" idx="3"/>
                <a:endCxn id="467" idx="1"/>
              </p:cNvCxnSpPr>
              <p:nvPr/>
            </p:nvCxnSpPr>
            <p:spPr>
              <a:xfrm>
                <a:off x="1565280" y="1810440"/>
                <a:ext cx="196200" cy="1080"/>
              </a:xfrm>
              <a:prstGeom prst="curvedConnector2">
                <a:avLst/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0" name=""/>
              <p:cNvCxnSpPr>
                <a:stCxn id="467" idx="3"/>
                <a:endCxn id="481" idx="1"/>
              </p:cNvCxnSpPr>
              <p:nvPr/>
            </p:nvCxnSpPr>
            <p:spPr>
              <a:xfrm flipV="1">
                <a:off x="3067920" y="1807200"/>
                <a:ext cx="395640" cy="3240"/>
              </a:xfrm>
              <a:prstGeom prst="curvedConnector5">
                <a:avLst>
                  <a:gd name="adj1" fmla="val 49544"/>
                  <a:gd name="adj2" fmla="val 50000"/>
                  <a:gd name="adj3" fmla="val 49544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sp>
            <p:nvSpPr>
              <p:cNvPr id="469" name=""/>
              <p:cNvSpPr/>
              <p:nvPr/>
            </p:nvSpPr>
            <p:spPr>
              <a:xfrm>
                <a:off x="1893600" y="2301120"/>
                <a:ext cx="262800" cy="392400"/>
              </a:xfrm>
              <a:prstGeom prst="foldedCorner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82" name=""/>
              <p:cNvCxnSpPr>
                <a:stCxn id="469" idx="3"/>
                <a:endCxn id="472" idx="1"/>
              </p:cNvCxnSpPr>
              <p:nvPr/>
            </p:nvCxnSpPr>
            <p:spPr>
              <a:xfrm>
                <a:off x="2156040" y="2496960"/>
                <a:ext cx="126360" cy="6840"/>
              </a:xfrm>
              <a:prstGeom prst="curvedConnector5">
                <a:avLst>
                  <a:gd name="adj1" fmla="val 47714"/>
                  <a:gd name="adj2" fmla="val 50000"/>
                  <a:gd name="adj3" fmla="val 47714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3" name=""/>
              <p:cNvCxnSpPr>
                <a:stCxn id="479" idx="1"/>
                <a:endCxn id="465" idx="1"/>
              </p:cNvCxnSpPr>
              <p:nvPr/>
            </p:nvCxnSpPr>
            <p:spPr>
              <a:xfrm flipH="1" flipV="1" rot="10800000">
                <a:off x="842760" y="1810800"/>
                <a:ext cx="3600" cy="6930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84" name=""/>
              <p:cNvCxnSpPr>
                <a:stCxn id="472" idx="3"/>
                <a:endCxn id="485" idx="1"/>
              </p:cNvCxnSpPr>
              <p:nvPr/>
            </p:nvCxnSpPr>
            <p:spPr>
              <a:xfrm flipV="1">
                <a:off x="2934360" y="2496600"/>
                <a:ext cx="134280" cy="684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sp>
            <p:nvSpPr>
              <p:cNvPr id="485" name=""/>
              <p:cNvSpPr/>
              <p:nvPr/>
            </p:nvSpPr>
            <p:spPr>
              <a:xfrm>
                <a:off x="3068280" y="2301120"/>
                <a:ext cx="261360" cy="392400"/>
              </a:xfrm>
              <a:prstGeom prst="foldedCorner">
                <a:avLst>
                  <a:gd name="adj" fmla="val 50000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86" name=""/>
              <p:cNvCxnSpPr>
                <a:stCxn id="485" idx="3"/>
                <a:endCxn id="474" idx="1"/>
              </p:cNvCxnSpPr>
              <p:nvPr/>
            </p:nvCxnSpPr>
            <p:spPr>
              <a:xfrm>
                <a:off x="3329280" y="2496960"/>
                <a:ext cx="131040" cy="1080"/>
              </a:xfrm>
              <a:prstGeom prst="curvedConnector2">
                <a:avLst/>
              </a:prstGeom>
              <a:ln w="9360">
                <a:solidFill>
                  <a:srgbClr val="000099"/>
                </a:solidFill>
                <a:miter/>
                <a:tailEnd len="sm" type="triangle" w="sm"/>
              </a:ln>
            </p:spPr>
          </p:cxnSp>
          <p:cxnSp>
            <p:nvCxnSpPr>
              <p:cNvPr id="487" name=""/>
              <p:cNvCxnSpPr>
                <a:stCxn id="474" idx="3"/>
                <a:endCxn id="481" idx="3"/>
              </p:cNvCxnSpPr>
              <p:nvPr/>
            </p:nvCxnSpPr>
            <p:spPr>
              <a:xfrm flipV="1">
                <a:off x="4112280" y="1807560"/>
                <a:ext cx="3600" cy="689760"/>
              </a:xfrm>
              <a:prstGeom prst="curvedConnector5">
                <a:avLst>
                  <a:gd name="adj1" fmla="val 14500000"/>
                  <a:gd name="adj2" fmla="val 49973"/>
                  <a:gd name="adj3" fmla="val 145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cxnSp>
            <p:nvCxnSpPr>
              <p:cNvPr id="488" name=""/>
              <p:cNvCxnSpPr>
                <a:stCxn id="465" idx="1"/>
                <a:endCxn id="466" idx="1"/>
              </p:cNvCxnSpPr>
              <p:nvPr/>
            </p:nvCxnSpPr>
            <p:spPr>
              <a:xfrm flipH="1" flipV="1" rot="10800000">
                <a:off x="842760" y="2503080"/>
                <a:ext cx="3600" cy="649440"/>
              </a:xfrm>
              <a:prstGeom prst="curvedConnector5">
                <a:avLst>
                  <a:gd name="adj1" fmla="val -14400000"/>
                  <a:gd name="adj2" fmla="val 49972"/>
                  <a:gd name="adj3" fmla="val -14400000"/>
                </a:avLst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</p:cxnSp>
          <p:sp>
            <p:nvSpPr>
              <p:cNvPr id="479" name=""/>
              <p:cNvSpPr/>
              <p:nvPr/>
            </p:nvSpPr>
            <p:spPr>
              <a:xfrm>
                <a:off x="843120" y="1580760"/>
                <a:ext cx="722160" cy="459000"/>
              </a:xfrm>
              <a:prstGeom prst="foldedCorner">
                <a:avLst>
                  <a:gd name="adj" fmla="val 28037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Start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63560" y="1577520"/>
                <a:ext cx="651960" cy="459000"/>
              </a:xfrm>
              <a:prstGeom prst="foldedCorner">
                <a:avLst>
                  <a:gd name="adj" fmla="val 28037"/>
                </a:avLst>
              </a:prstGeom>
              <a:solidFill>
                <a:srgbClr val="ffff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Goal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86560" y="3094560"/>
                <a:ext cx="785520" cy="39240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54440" y="295956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75600" y="3088800"/>
                <a:ext cx="785520" cy="3931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43120" y="295632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Get pizza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from Fridge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60680" y="2298240"/>
                <a:ext cx="65160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Clean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Up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282400" y="2304360"/>
                <a:ext cx="65196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Eat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3120" y="2304360"/>
                <a:ext cx="918000" cy="39492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Obtain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Food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492" name=""/>
              <p:cNvCxnSpPr/>
              <p:nvPr/>
            </p:nvCxnSpPr>
            <p:spPr>
              <a:xfrm flipH="1">
                <a:off x="3656520" y="2696400"/>
                <a:ext cx="129240" cy="39276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cxnSp>
            <p:nvCxnSpPr>
              <p:cNvPr id="493" name=""/>
              <p:cNvCxnSpPr>
                <a:stCxn id="474" idx="2"/>
              </p:cNvCxnSpPr>
              <p:nvPr/>
            </p:nvCxnSpPr>
            <p:spPr>
              <a:xfrm flipH="1">
                <a:off x="3526920" y="2693520"/>
                <a:ext cx="260640" cy="263520"/>
              </a:xfrm>
              <a:prstGeom prst="straightConnector1">
                <a:avLst/>
              </a:prstGeom>
              <a:ln w="9360">
                <a:solidFill>
                  <a:srgbClr val="000099"/>
                </a:solidFill>
                <a:miter/>
              </a:ln>
            </p:spPr>
          </p:cxnSp>
          <p:sp>
            <p:nvSpPr>
              <p:cNvPr id="494" name=""/>
              <p:cNvSpPr/>
              <p:nvPr/>
            </p:nvSpPr>
            <p:spPr>
              <a:xfrm>
                <a:off x="3264480" y="3092040"/>
                <a:ext cx="78408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30560" y="2956320"/>
                <a:ext cx="785520" cy="392040"/>
              </a:xfrm>
              <a:prstGeom prst="rect">
                <a:avLst/>
              </a:prstGeom>
              <a:solidFill>
                <a:srgbClr val="b0abc3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99"/>
                    </a:solidFill>
                    <a:latin typeface="Arial"/>
                    <a:ea typeface="Arial"/>
                  </a:rPr>
                  <a:t>. . .</a:t>
                </a:r>
                <a:endParaRPr b="0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529640" y="2401920"/>
              <a:ext cx="211680" cy="211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19280" y="3968640"/>
            <a:ext cx="3455640" cy="2578320"/>
            <a:chOff x="719280" y="3968640"/>
            <a:chExt cx="3455640" cy="2578320"/>
          </a:xfrm>
        </p:grpSpPr>
        <p:sp>
          <p:nvSpPr>
            <p:cNvPr id="498" name=""/>
            <p:cNvSpPr/>
            <p:nvPr/>
          </p:nvSpPr>
          <p:spPr>
            <a:xfrm>
              <a:off x="1217520" y="476028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Bird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9280" y="569664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Canar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8800" y="604800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Penguin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91440" y="405648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Animal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05960" y="5227920"/>
              <a:ext cx="673920" cy="293040"/>
            </a:xfrm>
            <a:prstGeom prst="ellipse">
              <a:avLst/>
            </a:prstGeom>
            <a:solidFill>
              <a:srgbClr val="b0abc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99"/>
                  </a:solidFill>
                  <a:latin typeface="Arial"/>
                </a:rPr>
                <a:t>Fish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0"/>
              <a:endCxn id="501" idx="4"/>
            </p:cNvCxnSpPr>
            <p:nvPr/>
          </p:nvCxnSpPr>
          <p:spPr>
            <a:xfrm flipH="1" flipV="1" rot="5400000">
              <a:off x="1685880" y="4217400"/>
              <a:ext cx="411120" cy="674640"/>
            </a:xfrm>
            <a:prstGeom prst="curvedConnector5">
              <a:avLst>
                <a:gd name="adj1" fmla="val 49956"/>
                <a:gd name="adj2" fmla="val 49973"/>
                <a:gd name="adj3" fmla="val 49956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4" name=""/>
            <p:cNvCxnSpPr>
              <a:stCxn id="499" idx="0"/>
              <a:endCxn id="498" idx="4"/>
            </p:cNvCxnSpPr>
            <p:nvPr/>
          </p:nvCxnSpPr>
          <p:spPr>
            <a:xfrm flipH="1" flipV="1" rot="5400000">
              <a:off x="983880" y="5125680"/>
              <a:ext cx="643320" cy="498960"/>
            </a:xfrm>
            <a:prstGeom prst="curvedConnector5">
              <a:avLst>
                <a:gd name="adj1" fmla="val 50000"/>
                <a:gd name="adj2" fmla="val 49963"/>
                <a:gd name="adj3" fmla="val 50000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5" name=""/>
            <p:cNvCxnSpPr>
              <a:stCxn id="500" idx="0"/>
              <a:endCxn id="498" idx="4"/>
            </p:cNvCxnSpPr>
            <p:nvPr/>
          </p:nvCxnSpPr>
          <p:spPr>
            <a:xfrm flipV="1" rot="16200000">
              <a:off x="1452600" y="5154120"/>
              <a:ext cx="995040" cy="79200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06" name=""/>
            <p:cNvCxnSpPr>
              <a:stCxn id="502" idx="0"/>
              <a:endCxn id="501" idx="4"/>
            </p:cNvCxnSpPr>
            <p:nvPr/>
          </p:nvCxnSpPr>
          <p:spPr>
            <a:xfrm flipV="1" rot="16200000">
              <a:off x="2095920" y="4480560"/>
              <a:ext cx="878760" cy="614880"/>
            </a:xfrm>
            <a:prstGeom prst="curvedConnector5">
              <a:avLst>
                <a:gd name="adj1" fmla="val 50000"/>
                <a:gd name="adj2" fmla="val 49970"/>
                <a:gd name="adj3" fmla="val 50000"/>
              </a:avLst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3237840" y="519948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51760" y="402660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</a:t>
              </a: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kin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</a:t>
              </a: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t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reathe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86400" indent="-8640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ove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51760" y="396864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11160" y="596052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!can fl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wim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11160" y="590220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422720" y="557928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ing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s yellow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2720" y="552096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20960" y="473076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</a:t>
              </a: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wing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fly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feather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20960" y="4672440"/>
              <a:ext cx="235080" cy="644400"/>
            </a:xfrm>
            <a:custGeom>
              <a:avLst/>
              <a:gdLst/>
              <a:ahLst/>
              <a:rect l="l" t="t" r="r" b="b"/>
              <a:pathLst>
                <a:path w="363" h="454">
                  <a:moveTo>
                    <a:pt x="363" y="0"/>
                  </a:moveTo>
                  <a:lnTo>
                    <a:pt x="0" y="0"/>
                  </a:lnTo>
                  <a:lnTo>
                    <a:pt x="0" y="454"/>
                  </a:lnTo>
                  <a:lnTo>
                    <a:pt x="363" y="454"/>
                  </a:lnTo>
                </a:path>
              </a:pathLst>
            </a:custGeom>
            <a:noFill/>
            <a:ln w="12600">
              <a:solidFill>
                <a:srgbClr val="3e3e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37840" y="5257800"/>
              <a:ext cx="93708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fin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an swim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  <a:p>
              <a:pPr marL="92160" indent="-92160">
                <a:lnSpc>
                  <a:spcPct val="80000"/>
                </a:lnSpc>
                <a:spcBef>
                  <a:spcPts val="224"/>
                </a:spcBef>
                <a:buClr>
                  <a:srgbClr val="cc333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as gills</a:t>
              </a:r>
              <a:endParaRPr b="0" lang="en-US" sz="9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“Thoughts”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as surprised by this event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(“time-line”)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elf-Models and Self-Referentiality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1376280"/>
            <a:ext cx="2987640" cy="1008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48000" y="512640"/>
            <a:ext cx="1764000" cy="100836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hysic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9280" y="1881360"/>
            <a:ext cx="2989080" cy="16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48000" y="166536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3176640"/>
            <a:ext cx="298764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48000" y="281628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oci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6360" y="4041720"/>
            <a:ext cx="331128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48000" y="3970440"/>
            <a:ext cx="1764000" cy="1008000"/>
          </a:xfrm>
          <a:prstGeom prst="wedgeRectCallout">
            <a:avLst>
              <a:gd name="adj1" fmla="val -91763"/>
              <a:gd name="adj2" fmla="val 51416"/>
            </a:avLst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592280"/>
            <a:ext cx="6408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Problems Addressed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e propose an integrated architecture for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implementing a number of “self-models”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e provide a model for talking about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modalities (auxiliary verbs) without the use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of higher-order or modal logics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Approach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Use Thomas Metzinger’s “Self-Model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Theory of Subjectivity” as a kind of </a:t>
            </a:r>
            <a:br>
              <a:rPr sz="1600"/>
            </a:b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requirement statement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Extend/generalize existing knowledge representation and reasoning formalisms to accommodate self-models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Implementation Status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Plays “Towers of Hanoi”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Working on a “Stone age prey/hunter” sandbox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http://tinycog.sourceforge.net/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Problems Addressed &amp; Approach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64000" y="1233360"/>
            <a:ext cx="3313080" cy="1776240"/>
            <a:chOff x="5364000" y="1233360"/>
            <a:chExt cx="3313080" cy="1776240"/>
          </a:xfrm>
        </p:grpSpPr>
        <p:sp>
          <p:nvSpPr>
            <p:cNvPr id="144" name=""/>
            <p:cNvSpPr/>
            <p:nvPr/>
          </p:nvSpPr>
          <p:spPr>
            <a:xfrm>
              <a:off x="6387120" y="1799640"/>
              <a:ext cx="1776960" cy="915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0400" y="214884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0400" y="244440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41840" y="1853280"/>
              <a:ext cx="1668960" cy="21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5646240" y="202788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990200" y="202680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6640" y="1502640"/>
              <a:ext cx="279936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5135040" y="2027880"/>
              <a:ext cx="915480" cy="45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000"/>
              </a:b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V="1">
              <a:off x="5767200" y="2254680"/>
              <a:ext cx="190440" cy="1800"/>
            </a:xfrm>
            <a:prstGeom prst="curvedConnector5">
              <a:avLst>
                <a:gd name="adj1" fmla="val 49242"/>
                <a:gd name="adj2" fmla="val 50000"/>
                <a:gd name="adj3" fmla="val 49242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53" name=""/>
            <p:cNvSpPr/>
            <p:nvPr/>
          </p:nvSpPr>
          <p:spPr>
            <a:xfrm>
              <a:off x="5875200" y="1502640"/>
              <a:ext cx="279936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64000" y="1233360"/>
              <a:ext cx="330984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4720" y="1502640"/>
              <a:ext cx="3309840" cy="24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767320"/>
              <a:ext cx="3310920" cy="24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rot="5400000">
              <a:off x="5888880" y="2726640"/>
              <a:ext cx="351000" cy="1800"/>
            </a:xfrm>
            <a:prstGeom prst="curvedConnector5">
              <a:avLst>
                <a:gd name="adj1" fmla="val 49794"/>
                <a:gd name="adj2" fmla="val 50000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8" name=""/>
            <p:cNvCxnSpPr/>
            <p:nvPr/>
          </p:nvCxnSpPr>
          <p:spPr>
            <a:xfrm rot="5400000">
              <a:off x="7692480" y="275328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9" name=""/>
            <p:cNvCxnSpPr/>
            <p:nvPr/>
          </p:nvCxnSpPr>
          <p:spPr>
            <a:xfrm rot="5400000">
              <a:off x="8150760" y="178524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60" name=""/>
            <p:cNvCxnSpPr/>
            <p:nvPr/>
          </p:nvCxnSpPr>
          <p:spPr>
            <a:xfrm rot="5400000">
              <a:off x="5322600" y="2727000"/>
              <a:ext cx="351000" cy="1440"/>
            </a:xfrm>
            <a:prstGeom prst="curvedConnector5">
              <a:avLst>
                <a:gd name="adj1" fmla="val 49794"/>
                <a:gd name="adj2" fmla="val 33333"/>
                <a:gd name="adj3" fmla="val 49794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61" name=""/>
            <p:cNvSpPr/>
            <p:nvPr/>
          </p:nvSpPr>
          <p:spPr>
            <a:xfrm flipV="1">
              <a:off x="8029080" y="1986840"/>
              <a:ext cx="0" cy="94284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V="1" rot="10800000">
              <a:off x="8540280" y="1340640"/>
              <a:ext cx="1080" cy="620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the room I’m in, 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Mental Event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just had an idea how to solve plan X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Different Levels of Self-Models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24000" y="512640"/>
            <a:ext cx="5688000" cy="5616720"/>
            <a:chOff x="324000" y="512640"/>
            <a:chExt cx="5688000" cy="5616720"/>
          </a:xfrm>
        </p:grpSpPr>
        <p:sp>
          <p:nvSpPr>
            <p:cNvPr id="166" name=""/>
            <p:cNvSpPr/>
            <p:nvPr/>
          </p:nvSpPr>
          <p:spPr>
            <a:xfrm>
              <a:off x="324000" y="1376280"/>
              <a:ext cx="2987640" cy="1008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8000" y="512640"/>
              <a:ext cx="1764000" cy="100836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9280" y="1881360"/>
              <a:ext cx="2989080" cy="16905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8000" y="166536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Planning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3176640"/>
              <a:ext cx="2987640" cy="12970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8000" y="281628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Soci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6360" y="4041720"/>
              <a:ext cx="3311280" cy="2087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48000" y="3970440"/>
              <a:ext cx="1764000" cy="1008000"/>
            </a:xfrm>
            <a:prstGeom prst="wedgeRectCallout">
              <a:avLst>
                <a:gd name="adj1" fmla="val -91763"/>
                <a:gd name="adj2" fmla="val 51416"/>
              </a:avLst>
            </a:prstGeom>
            <a:solidFill>
              <a:srgbClr val="f8f8f8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99"/>
                  </a:solidFill>
                  <a:latin typeface="Arial"/>
                </a:rPr>
                <a:t>Interna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5280" y="1773360"/>
            <a:ext cx="6444720" cy="3453480"/>
            <a:chOff x="1295280" y="1773360"/>
            <a:chExt cx="6444720" cy="3453480"/>
          </a:xfrm>
        </p:grpSpPr>
        <p:sp>
          <p:nvSpPr>
            <p:cNvPr id="176" name=""/>
            <p:cNvSpPr/>
            <p:nvPr/>
          </p:nvSpPr>
          <p:spPr>
            <a:xfrm>
              <a:off x="3285720" y="2874240"/>
              <a:ext cx="3456720" cy="1779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9400" y="355320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ason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89400" y="412812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Scen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1920" y="2978280"/>
              <a:ext cx="3246840" cy="417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n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845720" y="3318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gni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6404400" y="331632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lan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xecu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92840" y="2297160"/>
              <a:ext cx="544536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850680" y="3318480"/>
              <a:ext cx="1779840" cy="89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3D </a:t>
              </a:r>
              <a:br>
                <a:rPr sz="1400"/>
              </a:b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Reconstruct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84" name=""/>
            <p:cNvCxnSpPr/>
            <p:nvPr/>
          </p:nvCxnSpPr>
          <p:spPr>
            <a:xfrm flipV="1">
              <a:off x="2079720" y="3759840"/>
              <a:ext cx="369720" cy="3240"/>
            </a:xfrm>
            <a:prstGeom prst="curvedConnector5">
              <a:avLst>
                <a:gd name="adj1" fmla="val 49317"/>
                <a:gd name="adj2" fmla="val 50000"/>
                <a:gd name="adj3" fmla="val 49317"/>
              </a:avLst>
            </a:prstGeom>
            <a:ln w="28440">
              <a:solidFill>
                <a:srgbClr val="3e3e5c"/>
              </a:solidFill>
              <a:miter/>
              <a:tailEnd len="lg" type="triangle" w="lg"/>
            </a:ln>
          </p:spPr>
        </p:cxnSp>
        <p:sp>
          <p:nvSpPr>
            <p:cNvPr id="185" name=""/>
            <p:cNvSpPr/>
            <p:nvPr/>
          </p:nvSpPr>
          <p:spPr>
            <a:xfrm>
              <a:off x="2290320" y="2297160"/>
              <a:ext cx="544536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1773360"/>
              <a:ext cx="643824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Attention Subsystem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7080" y="2297160"/>
              <a:ext cx="6438240" cy="470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Persistent Pla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755960"/>
              <a:ext cx="6440400" cy="470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99"/>
                  </a:solidFill>
                  <a:latin typeface="Arial"/>
                  <a:ea typeface="Arial"/>
                </a:rPr>
                <a:t>Episodic Memor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89" name=""/>
            <p:cNvCxnSpPr/>
            <p:nvPr/>
          </p:nvCxnSpPr>
          <p:spPr>
            <a:xfrm rot="5400000">
              <a:off x="2316960" y="4677480"/>
              <a:ext cx="681840" cy="324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0" name=""/>
            <p:cNvCxnSpPr/>
            <p:nvPr/>
          </p:nvCxnSpPr>
          <p:spPr>
            <a:xfrm rot="5400000">
              <a:off x="5825160" y="472860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6716520" y="284688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92" name=""/>
            <p:cNvCxnSpPr/>
            <p:nvPr/>
          </p:nvCxnSpPr>
          <p:spPr>
            <a:xfrm rot="5400000">
              <a:off x="1215360" y="4677840"/>
              <a:ext cx="681840" cy="2520"/>
            </a:xfrm>
            <a:prstGeom prst="curvedConnector5">
              <a:avLst>
                <a:gd name="adj1" fmla="val 49815"/>
                <a:gd name="adj2" fmla="val 50000"/>
                <a:gd name="adj3" fmla="val 49815"/>
              </a:avLst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93" name=""/>
            <p:cNvSpPr/>
            <p:nvPr/>
          </p:nvSpPr>
          <p:spPr>
            <a:xfrm flipV="1">
              <a:off x="6479280" y="3238920"/>
              <a:ext cx="0" cy="1832760"/>
            </a:xfrm>
            <a:prstGeom prst="line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94" name=""/>
            <p:cNvCxnSpPr/>
            <p:nvPr/>
          </p:nvCxnSpPr>
          <p:spPr>
            <a:xfrm flipV="1" rot="10800000">
              <a:off x="7473960" y="1982880"/>
              <a:ext cx="1080" cy="1205640"/>
            </a:xfrm>
            <a:prstGeom prst="curvedConnector2">
              <a:avLst/>
            </a:prstGeom>
            <a:ln w="28440">
              <a:solidFill>
                <a:srgbClr val="3e3e5c"/>
              </a:solidFill>
              <a:miter/>
              <a:headEnd len="lg" type="triangle" w="lg"/>
              <a:tailEnd len="lg" type="triangle" w="lg"/>
            </a:ln>
          </p:spPr>
        </p:cxnSp>
      </p:grpSp>
      <p:sp>
        <p:nvSpPr>
          <p:cNvPr id="195" name=""/>
          <p:cNvSpPr/>
          <p:nvPr/>
        </p:nvSpPr>
        <p:spPr>
          <a:xfrm>
            <a:off x="3166920" y="2744640"/>
            <a:ext cx="370872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422100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6464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5445000"/>
            <a:ext cx="787104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20+ subsystems 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Tahoma"/>
              </a:rPr>
              <a:t>Explained at http://tinycog.sourceforge.net</a:t>
            </a:r>
            <a:endParaRPr b="0" lang="en-US" sz="2400" spc="-1" strike="noStrike">
              <a:solidFill>
                <a:srgbClr val="3e3e5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920" y="4076640"/>
            <a:ext cx="223200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59280" y="1665360"/>
            <a:ext cx="5581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3D Scene Graph level – suitable for 3D reconstruction and low-level planning. 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physics simulation.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“diagram reasoning”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Semantic Network level – “1st Mind”, provides “concepts” and “roles” as an abstraction from object and their attributes.</a:t>
            </a:r>
            <a:br>
              <a:rPr sz="1800"/>
            </a:b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Reasoning using Description Logic reasoning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2D Graph level – suitable to represent 2D maps, meta-representations of internal data-structure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Situation” level – Scenes act as world states and internal states to the planner, adding “dynamics”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208" name=""/>
          <p:cNvCxnSpPr>
            <a:stCxn id="209" idx="2"/>
            <a:endCxn id="210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9" idx="3"/>
            <a:endCxn id="213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14" name=""/>
          <p:cNvCxnSpPr>
            <a:stCxn id="211" idx="2"/>
            <a:endCxn id="209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5" name=""/>
          <p:cNvCxnSpPr>
            <a:stCxn id="211" idx="2"/>
            <a:endCxn id="216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7" name=""/>
          <p:cNvCxnSpPr>
            <a:stCxn id="211" idx="2"/>
            <a:endCxn id="218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19" name=""/>
          <p:cNvCxnSpPr>
            <a:stCxn id="209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0" name=""/>
          <p:cNvCxnSpPr>
            <a:stCxn id="216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1" name=""/>
          <p:cNvCxnSpPr>
            <a:stCxn id="216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22" name=""/>
          <p:cNvCxnSpPr>
            <a:stCxn id="223" idx="3"/>
            <a:endCxn id="211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24" name=""/>
          <p:cNvCxnSpPr>
            <a:stCxn id="211" idx="3"/>
            <a:endCxn id="225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13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13" idx="3"/>
            <a:endCxn id="216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27" name=""/>
          <p:cNvCxnSpPr>
            <a:stCxn id="223" idx="1"/>
            <a:endCxn id="209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6" idx="3"/>
            <a:endCxn id="229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29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3"/>
            <a:endCxn id="218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31" name=""/>
          <p:cNvCxnSpPr>
            <a:stCxn id="218" idx="3"/>
            <a:endCxn id="225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09" idx="1"/>
            <a:endCxn id="210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42" name=""/>
          <p:cNvCxnSpPr>
            <a:stCxn id="218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251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2880" y="589284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40" idx="1"/>
            <a:endCxn id="259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9" idx="2"/>
            <a:endCxn id="239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000099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8920" y="4076640"/>
            <a:ext cx="2232000" cy="287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59280" y="1670040"/>
            <a:ext cx="55814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Reasoning is performed by several specialized subsystems. 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We use Description Logic as a “First Mind” convenient “knowledge assembler“ to classify objects and their attributes into concepts and roles, but not for “higher-level” reasoning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2D graph reasoning is a special type of planning.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Two Minds”: Planning together with the attention, motivational and “persistent goal” subsystems forms a 2nd reasoning system in addition to DL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282" name=""/>
          <p:cNvCxnSpPr>
            <a:stCxn id="283" idx="2"/>
            <a:endCxn id="284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285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3" idx="3"/>
            <a:endCxn id="287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88" name=""/>
          <p:cNvCxnSpPr>
            <a:stCxn id="285" idx="2"/>
            <a:endCxn id="283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89" name=""/>
          <p:cNvCxnSpPr>
            <a:stCxn id="285" idx="2"/>
            <a:endCxn id="290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1" name=""/>
          <p:cNvCxnSpPr>
            <a:stCxn id="285" idx="2"/>
            <a:endCxn id="292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3" name=""/>
          <p:cNvCxnSpPr>
            <a:stCxn id="283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4" name=""/>
          <p:cNvCxnSpPr>
            <a:stCxn id="290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5" name=""/>
          <p:cNvCxnSpPr>
            <a:stCxn id="290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296" name=""/>
          <p:cNvCxnSpPr>
            <a:stCxn id="297" idx="3"/>
            <a:endCxn id="285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298" name=""/>
          <p:cNvCxnSpPr>
            <a:stCxn id="285" idx="3"/>
            <a:endCxn id="299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7" idx="3"/>
            <a:endCxn id="290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301" name=""/>
          <p:cNvCxnSpPr>
            <a:stCxn id="297" idx="1"/>
            <a:endCxn id="283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0" idx="3"/>
            <a:endCxn id="303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3" idx="3"/>
            <a:endCxn id="292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sm" type="triangle" w="sm"/>
          </a:ln>
        </p:spPr>
      </p:cxnSp>
      <p:cxnSp>
        <p:nvCxnSpPr>
          <p:cNvPr id="305" name=""/>
          <p:cNvCxnSpPr>
            <a:stCxn id="292" idx="3"/>
            <a:endCxn id="299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83" idx="1"/>
            <a:endCxn id="284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5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cxnSp>
        <p:nvCxnSpPr>
          <p:cNvPr id="316" name=""/>
          <p:cNvCxnSpPr>
            <a:stCxn id="292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b0abc3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b0abc3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325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02880" y="587700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14" idx="1"/>
            <a:endCxn id="333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3" idx="2"/>
            <a:endCxn id="313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noFill/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51280" y="252900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403280" y="5554800"/>
            <a:ext cx="935280" cy="9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6000" y="3249720"/>
            <a:ext cx="2484360" cy="165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SBR „Core</a:t>
            </a: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0360" y="407844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0360" y="447372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400" spc="-1" strike="noStrike">
                <a:solidFill>
                  <a:srgbClr val="b0abc3"/>
                </a:solidFill>
                <a:latin typeface="Arial"/>
                <a:ea typeface="Arial"/>
              </a:rPr>
              <a:t>Scenes“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0360" y="3681360"/>
            <a:ext cx="223056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6000" y="5265720"/>
            <a:ext cx="3276360" cy="1332000"/>
          </a:xfrm>
          <a:prstGeom prst="wedgeRectCallout">
            <a:avLst>
              <a:gd name="adj1" fmla="val -22578"/>
              <a:gd name="adj2" fmla="val -94217"/>
            </a:avLst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Scene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1557360"/>
            <a:ext cx="1981080" cy="1403280"/>
          </a:xfrm>
          <a:prstGeom prst="wedgeRectCallout">
            <a:avLst>
              <a:gd name="adj1" fmla="val -27643"/>
              <a:gd name="adj2" fmla="val 109500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„</a:t>
            </a:r>
            <a:r>
              <a:rPr b="0" lang="de-DE" sz="1200" spc="-1" strike="noStrike">
                <a:solidFill>
                  <a:srgbClr val="000099"/>
                </a:solidFill>
                <a:latin typeface="Arial"/>
                <a:ea typeface="Arial"/>
              </a:rPr>
              <a:t>Plan“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059280" y="1706040"/>
            <a:ext cx="55814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We use “Scenes” as a unified representation of internal and world states and as “situations” for the planner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Reasoning is performed by several specialized subsystems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The „Planner“ uses Scenes as situations and goals.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Task decompositions” (HTNs) provide a middle ground between STRIPS style planning and procedural execution and are easy to learn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Actions may have multiple deterministic outcomes – statistics about actions are collected in the episodic memory.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Physics simulations cover a range of planning capabilities that are difficult to handle using FOL and derivates</a:t>
            </a:r>
            <a:endParaRPr b="0" lang="en-US" sz="1600" spc="-1" strike="noStrike">
              <a:solidFill>
                <a:srgbClr val="3e3e5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5c"/>
                </a:solidFill>
                <a:latin typeface="Tahoma"/>
              </a:rPr>
              <a:t>A “simulation subsystem” allows for what-if analysis of plans</a:t>
            </a:r>
            <a:r>
              <a:rPr b="0" lang="en-US" sz="1800" spc="-1" strike="noStrike">
                <a:solidFill>
                  <a:srgbClr val="3e3e5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e3e5c"/>
              </a:solidFill>
              <a:latin typeface="Tahoma"/>
            </a:endParaRPr>
          </a:p>
        </p:txBody>
      </p:sp>
      <p:cxnSp>
        <p:nvCxnSpPr>
          <p:cNvPr id="357" name=""/>
          <p:cNvCxnSpPr>
            <a:stCxn id="358" idx="2"/>
            <a:endCxn id="359" idx="3"/>
          </p:cNvCxnSpPr>
          <p:nvPr/>
        </p:nvCxnSpPr>
        <p:spPr>
          <a:xfrm>
            <a:off x="755640" y="2459160"/>
            <a:ext cx="180000" cy="2498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1008000" y="1843200"/>
            <a:ext cx="719280" cy="25236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Eat Dinner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58" idx="3"/>
            <a:endCxn id="362" idx="1"/>
          </p:cNvCxnSpPr>
          <p:nvPr/>
        </p:nvCxnSpPr>
        <p:spPr>
          <a:xfrm flipV="1">
            <a:off x="10076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63" name=""/>
          <p:cNvCxnSpPr>
            <a:stCxn id="360" idx="2"/>
            <a:endCxn id="358" idx="0"/>
          </p:cNvCxnSpPr>
          <p:nvPr/>
        </p:nvCxnSpPr>
        <p:spPr>
          <a:xfrm flipH="1">
            <a:off x="755280" y="2095560"/>
            <a:ext cx="613440" cy="14688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4" name=""/>
          <p:cNvCxnSpPr>
            <a:stCxn id="360" idx="2"/>
            <a:endCxn id="365" idx="0"/>
          </p:cNvCxnSpPr>
          <p:nvPr/>
        </p:nvCxnSpPr>
        <p:spPr>
          <a:xfrm>
            <a:off x="1368360" y="2095560"/>
            <a:ext cx="107280" cy="14688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6" name=""/>
          <p:cNvCxnSpPr>
            <a:stCxn id="360" idx="2"/>
            <a:endCxn id="367" idx="0"/>
          </p:cNvCxnSpPr>
          <p:nvPr/>
        </p:nvCxnSpPr>
        <p:spPr>
          <a:xfrm>
            <a:off x="1368000" y="2095200"/>
            <a:ext cx="754920" cy="1436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8" name=""/>
          <p:cNvCxnSpPr>
            <a:stCxn id="358" idx="2"/>
          </p:cNvCxnSpPr>
          <p:nvPr/>
        </p:nvCxnSpPr>
        <p:spPr>
          <a:xfrm flipH="1">
            <a:off x="647280" y="2458800"/>
            <a:ext cx="108720" cy="2149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69" name=""/>
          <p:cNvCxnSpPr>
            <a:stCxn id="365" idx="2"/>
          </p:cNvCxnSpPr>
          <p:nvPr/>
        </p:nvCxnSpPr>
        <p:spPr>
          <a:xfrm flipH="1">
            <a:off x="1402560" y="2458800"/>
            <a:ext cx="72360" cy="2149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70" name=""/>
          <p:cNvCxnSpPr>
            <a:stCxn id="365" idx="2"/>
          </p:cNvCxnSpPr>
          <p:nvPr/>
        </p:nvCxnSpPr>
        <p:spPr>
          <a:xfrm flipH="1">
            <a:off x="1331280" y="2458800"/>
            <a:ext cx="143640" cy="1436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71" name=""/>
          <p:cNvCxnSpPr>
            <a:stCxn id="372" idx="3"/>
            <a:endCxn id="360" idx="1"/>
          </p:cNvCxnSpPr>
          <p:nvPr/>
        </p:nvCxnSpPr>
        <p:spPr>
          <a:xfrm>
            <a:off x="900000" y="1969560"/>
            <a:ext cx="10872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73" name=""/>
          <p:cNvCxnSpPr>
            <a:stCxn id="360" idx="3"/>
            <a:endCxn id="374" idx="1"/>
          </p:cNvCxnSpPr>
          <p:nvPr/>
        </p:nvCxnSpPr>
        <p:spPr>
          <a:xfrm flipV="1">
            <a:off x="1727280" y="1968120"/>
            <a:ext cx="218160" cy="2160"/>
          </a:xfrm>
          <a:prstGeom prst="curvedConnector5">
            <a:avLst>
              <a:gd name="adj1" fmla="val 49586"/>
              <a:gd name="adj2" fmla="val 40000"/>
              <a:gd name="adj3" fmla="val 49586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1081080" y="2239920"/>
            <a:ext cx="144360" cy="21600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62" idx="3"/>
            <a:endCxn id="365" idx="1"/>
          </p:cNvCxnSpPr>
          <p:nvPr/>
        </p:nvCxnSpPr>
        <p:spPr>
          <a:xfrm>
            <a:off x="1225440" y="2347560"/>
            <a:ext cx="70200" cy="3960"/>
          </a:xfrm>
          <a:prstGeom prst="curvedConnector5">
            <a:avLst>
              <a:gd name="adj1" fmla="val 47938"/>
              <a:gd name="adj2" fmla="val 50000"/>
              <a:gd name="adj3" fmla="val 47938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76" name=""/>
          <p:cNvCxnSpPr>
            <a:stCxn id="372" idx="1"/>
            <a:endCxn id="358" idx="1"/>
          </p:cNvCxnSpPr>
          <p:nvPr/>
        </p:nvCxnSpPr>
        <p:spPr>
          <a:xfrm flipH="1" flipV="1" rot="10800000">
            <a:off x="502920" y="1968840"/>
            <a:ext cx="2160" cy="3819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65" idx="3"/>
            <a:endCxn id="378" idx="1"/>
          </p:cNvCxnSpPr>
          <p:nvPr/>
        </p:nvCxnSpPr>
        <p:spPr>
          <a:xfrm flipV="1">
            <a:off x="1653840" y="2347200"/>
            <a:ext cx="7380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1727280" y="2239920"/>
            <a:ext cx="144360" cy="21600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8" idx="3"/>
            <a:endCxn id="367" idx="1"/>
          </p:cNvCxnSpPr>
          <p:nvPr/>
        </p:nvCxnSpPr>
        <p:spPr>
          <a:xfrm>
            <a:off x="1871280" y="2347560"/>
            <a:ext cx="72360" cy="1080"/>
          </a:xfrm>
          <a:prstGeom prst="curvedConnector2">
            <a:avLst/>
          </a:prstGeom>
          <a:ln w="9360">
            <a:solidFill>
              <a:srgbClr val="000099"/>
            </a:solidFill>
            <a:miter/>
            <a:tailEnd len="sm" type="triangle" w="sm"/>
          </a:ln>
        </p:spPr>
      </p:cxnSp>
      <p:cxnSp>
        <p:nvCxnSpPr>
          <p:cNvPr id="380" name=""/>
          <p:cNvCxnSpPr>
            <a:stCxn id="367" idx="3"/>
            <a:endCxn id="374" idx="3"/>
          </p:cNvCxnSpPr>
          <p:nvPr/>
        </p:nvCxnSpPr>
        <p:spPr>
          <a:xfrm flipV="1">
            <a:off x="2301480" y="1968120"/>
            <a:ext cx="2520" cy="380160"/>
          </a:xfrm>
          <a:prstGeom prst="curvedConnector5">
            <a:avLst>
              <a:gd name="adj1" fmla="val 14500000"/>
              <a:gd name="adj2" fmla="val 49952"/>
              <a:gd name="adj3" fmla="val 145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58" idx="1"/>
            <a:endCxn id="359" idx="1"/>
          </p:cNvCxnSpPr>
          <p:nvPr/>
        </p:nvCxnSpPr>
        <p:spPr>
          <a:xfrm flipH="1" flipV="1" rot="10800000">
            <a:off x="502920" y="2350800"/>
            <a:ext cx="2160" cy="357840"/>
          </a:xfrm>
          <a:prstGeom prst="curvedConnector5">
            <a:avLst>
              <a:gd name="adj1" fmla="val -14400000"/>
              <a:gd name="adj2" fmla="val 49949"/>
              <a:gd name="adj3" fmla="val -1440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503280" y="1843200"/>
            <a:ext cx="396720" cy="25236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Star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44720" y="1841400"/>
            <a:ext cx="358920" cy="25236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Goal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7280" y="2676600"/>
            <a:ext cx="43200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4560" y="2602080"/>
            <a:ext cx="431640" cy="2156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6360" y="267336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3280" y="260028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Get pizza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from Fridge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43280" y="2238480"/>
            <a:ext cx="35856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Clean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Up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2241720"/>
            <a:ext cx="35892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Eat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3280" y="2241720"/>
            <a:ext cx="504720" cy="21744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Obtain</a:t>
            </a:r>
            <a:br>
              <a:rPr sz="600"/>
            </a:br>
            <a:r>
              <a:rPr b="0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Food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5408640"/>
            <a:ext cx="934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5842080"/>
            <a:ext cx="36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7280" y="6489720"/>
            <a:ext cx="900000" cy="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0000" y="5589720"/>
            <a:ext cx="684000" cy="934920"/>
          </a:xfrm>
          <a:prstGeom prst="rect">
            <a:avLst/>
          </a:prstGeom>
          <a:solidFill>
            <a:srgbClr val="eaeaea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b0abc3"/>
                </a:solidFill>
                <a:latin typeface="Arial"/>
                <a:ea typeface="Arial"/>
              </a:rPr>
              <a:t>Table1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36720" y="5624640"/>
            <a:ext cx="682920" cy="900000"/>
          </a:xfrm>
          <a:prstGeom prst="rect">
            <a:avLst/>
          </a:prstGeom>
          <a:noFill/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Human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H="1">
            <a:off x="2050200" y="2457360"/>
            <a:ext cx="72360" cy="2167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391" name=""/>
          <p:cNvCxnSpPr>
            <a:stCxn id="367" idx="2"/>
          </p:cNvCxnSpPr>
          <p:nvPr/>
        </p:nvCxnSpPr>
        <p:spPr>
          <a:xfrm flipH="1">
            <a:off x="1978920" y="2455560"/>
            <a:ext cx="143640" cy="14472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1835280" y="267480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62200" y="2600280"/>
            <a:ext cx="431640" cy="216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>
                <a:solidFill>
                  <a:srgbClr val="000099"/>
                </a:solidFill>
                <a:latin typeface="Arial"/>
                <a:ea typeface="Arial"/>
              </a:rPr>
              <a:t>. . .</a:t>
            </a:r>
            <a:endParaRPr b="0" lang="en-US" sz="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9840" y="594684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200" y="594684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58960" y="6058080"/>
            <a:ext cx="7596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4960" y="6058080"/>
            <a:ext cx="76320" cy="2919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6058080"/>
            <a:ext cx="503280" cy="36360"/>
          </a:xfrm>
          <a:prstGeom prst="rect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01800" y="5553000"/>
            <a:ext cx="358560" cy="825480"/>
            <a:chOff x="901800" y="5553000"/>
            <a:chExt cx="358560" cy="825480"/>
          </a:xfrm>
        </p:grpSpPr>
        <p:sp>
          <p:nvSpPr>
            <p:cNvPr id="400" name=""/>
            <p:cNvSpPr/>
            <p:nvPr/>
          </p:nvSpPr>
          <p:spPr>
            <a:xfrm rot="5400000">
              <a:off x="1132200" y="6180840"/>
              <a:ext cx="179280" cy="7308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79640" y="5734080"/>
              <a:ext cx="180720" cy="43020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79640" y="5553000"/>
              <a:ext cx="180720" cy="144360"/>
            </a:xfrm>
            <a:prstGeom prst="ellipse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1061280" y="6252480"/>
              <a:ext cx="179280" cy="7272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3323400">
              <a:off x="990000" y="5786640"/>
              <a:ext cx="71280" cy="252360"/>
            </a:xfrm>
            <a:prstGeom prst="rect">
              <a:avLst/>
            </a:prstGeom>
            <a:solidFill>
              <a:srgbClr val="b0abc3"/>
            </a:solidFill>
            <a:ln w="9360">
              <a:solidFill>
                <a:srgbClr val="b0a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407960" y="5857920"/>
            <a:ext cx="740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Table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Color: gree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Size: 1 x 1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02880" y="5892840"/>
            <a:ext cx="79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Type: Human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Gender: male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Position: 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...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389" idx="1"/>
            <a:endCxn id="408" idx="6"/>
          </p:cNvCxnSpPr>
          <p:nvPr/>
        </p:nvCxnSpPr>
        <p:spPr>
          <a:xfrm rot="10800000">
            <a:off x="2591640" y="6074640"/>
            <a:ext cx="144720" cy="1080"/>
          </a:xfrm>
          <a:prstGeom prst="curvedConnector2">
            <a:avLst/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8" idx="2"/>
            <a:endCxn id="388" idx="3"/>
          </p:cNvCxnSpPr>
          <p:nvPr/>
        </p:nvCxnSpPr>
        <p:spPr>
          <a:xfrm rot="10800000">
            <a:off x="2123280" y="6057360"/>
            <a:ext cx="144720" cy="18000"/>
          </a:xfrm>
          <a:prstGeom prst="curvedConnector5">
            <a:avLst>
              <a:gd name="adj1" fmla="val 50623"/>
              <a:gd name="adj2" fmla="val 48979"/>
              <a:gd name="adj3" fmla="val 50623"/>
            </a:avLst>
          </a:prstGeom>
          <a:ln w="9360">
            <a:solidFill>
              <a:srgbClr val="b0abc3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2268360" y="5877000"/>
            <a:ext cx="324000" cy="396720"/>
          </a:xfrm>
          <a:prstGeom prst="ellipse">
            <a:avLst/>
          </a:prstGeom>
          <a:solidFill>
            <a:srgbClr val="b0abc3"/>
          </a:solidFill>
          <a:ln w="936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in-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front</a:t>
            </a:r>
            <a:br>
              <a:rPr sz="800"/>
            </a:br>
            <a:r>
              <a:rPr b="0" lang="de-DE" sz="800" spc="-1" strike="noStrike">
                <a:solidFill>
                  <a:srgbClr val="b0abc3"/>
                </a:solidFill>
                <a:latin typeface="Arial"/>
                <a:ea typeface="Arial"/>
              </a:rPr>
              <a:t>-of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1640" y="873000"/>
            <a:ext cx="612720" cy="324000"/>
          </a:xfrm>
          <a:prstGeom prst="rect">
            <a:avLst/>
          </a:prstGeom>
          <a:solidFill>
            <a:srgbClr val="b0abc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Task/</a:t>
            </a:r>
            <a:br>
              <a:rPr sz="900"/>
            </a:b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Action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873000"/>
            <a:ext cx="502920" cy="324000"/>
          </a:xfrm>
          <a:prstGeom prst="foldedCorner">
            <a:avLst>
              <a:gd name="adj" fmla="val 28037"/>
            </a:avLst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99"/>
                </a:solidFill>
                <a:latin typeface="Arial"/>
                <a:ea typeface="Arial"/>
              </a:rPr>
              <a:t>Scene</a:t>
            </a: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6360" y="1233360"/>
            <a:ext cx="108000" cy="57492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1233360"/>
            <a:ext cx="504720" cy="97164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7640" y="1233360"/>
            <a:ext cx="1295640" cy="61128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50920" y="1233360"/>
            <a:ext cx="73080" cy="54000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92000" y="1233360"/>
            <a:ext cx="324000" cy="97164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1233360"/>
            <a:ext cx="828720" cy="935280"/>
          </a:xfrm>
          <a:prstGeom prst="line">
            <a:avLst/>
          </a:prstGeom>
          <a:ln w="9360">
            <a:solidFill>
              <a:srgbClr val="3e3e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40000" y="411336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4508640"/>
            <a:ext cx="216000" cy="2156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40000" y="371628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54160" y="170028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54160" y="2527200"/>
            <a:ext cx="36072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b0a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b0abc3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3249720"/>
            <a:ext cx="360360" cy="36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cene Based Reasoning “Core” Architecture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826920" y="4653000"/>
            <a:ext cx="787104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Attention Subsystem controls sensor focus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Persistent Plans for setting plan priorities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Episodic Memory stores plans indexed by content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Plan Recognition allows for 1-shot learning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5c"/>
                </a:solidFill>
                <a:latin typeface="Tahoma"/>
              </a:rPr>
              <a:t>20+ subsystems defined at http://tinycog.sourceforge.net</a:t>
            </a: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3708360" y="2241720"/>
            <a:ext cx="2376360" cy="122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80000" y="2709720"/>
            <a:ext cx="2232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ason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80000" y="3105000"/>
            <a:ext cx="2232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Scen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781440" y="2313000"/>
            <a:ext cx="2232000" cy="287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n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2718720" y="2546640"/>
            <a:ext cx="122364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cogni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852160" y="2545560"/>
            <a:ext cx="122400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lan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Execu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76360" y="2349360"/>
            <a:ext cx="1511280" cy="10033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021440" y="2352600"/>
            <a:ext cx="1511280" cy="1003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025800" y="1844640"/>
            <a:ext cx="374328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Pl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35" name=""/>
          <p:cNvCxnSpPr/>
          <p:nvPr/>
        </p:nvCxnSpPr>
        <p:spPr>
          <a:xfrm flipV="1">
            <a:off x="2085840" y="2851920"/>
            <a:ext cx="254880" cy="2520"/>
          </a:xfrm>
          <a:prstGeom prst="curvedConnector5">
            <a:avLst>
              <a:gd name="adj1" fmla="val 49363"/>
              <a:gd name="adj2" fmla="val 50000"/>
              <a:gd name="adj3" fmla="val 49363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6" name=""/>
          <p:cNvCxnSpPr/>
          <p:nvPr/>
        </p:nvCxnSpPr>
        <p:spPr>
          <a:xfrm>
            <a:off x="6769080" y="2852280"/>
            <a:ext cx="249840" cy="2520"/>
          </a:xfrm>
          <a:prstGeom prst="curvedConnector5">
            <a:avLst>
              <a:gd name="adj1" fmla="val 49639"/>
              <a:gd name="adj2" fmla="val 50000"/>
              <a:gd name="adj3" fmla="val 49639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7" name=""/>
          <p:cNvCxnSpPr>
            <a:stCxn id="434" idx="3"/>
            <a:endCxn id="433" idx="0"/>
          </p:cNvCxnSpPr>
          <p:nvPr/>
        </p:nvCxnSpPr>
        <p:spPr>
          <a:xfrm>
            <a:off x="6769080" y="2006280"/>
            <a:ext cx="1008720" cy="346680"/>
          </a:xfrm>
          <a:prstGeom prst="curvedConnector2">
            <a:avLst/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cxnSp>
        <p:nvCxnSpPr>
          <p:cNvPr id="438" name=""/>
          <p:cNvCxnSpPr>
            <a:stCxn id="439" idx="1"/>
            <a:endCxn id="432" idx="0"/>
          </p:cNvCxnSpPr>
          <p:nvPr/>
        </p:nvCxnSpPr>
        <p:spPr>
          <a:xfrm flipV="1" rot="10800000">
            <a:off x="1331280" y="1645200"/>
            <a:ext cx="1008720" cy="703800"/>
          </a:xfrm>
          <a:prstGeom prst="curvedConnector2">
            <a:avLst/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0" name=""/>
          <p:cNvSpPr/>
          <p:nvPr/>
        </p:nvSpPr>
        <p:spPr>
          <a:xfrm rot="16200000">
            <a:off x="2034360" y="2546640"/>
            <a:ext cx="1223640" cy="612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3D </a:t>
            </a:r>
            <a:br>
              <a:rPr sz="1400"/>
            </a:b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Reconstru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1" name=""/>
          <p:cNvCxnSpPr/>
          <p:nvPr/>
        </p:nvCxnSpPr>
        <p:spPr>
          <a:xfrm flipV="1">
            <a:off x="2879640" y="2851920"/>
            <a:ext cx="254880" cy="2520"/>
          </a:xfrm>
          <a:prstGeom prst="curvedConnector5">
            <a:avLst>
              <a:gd name="adj1" fmla="val 49363"/>
              <a:gd name="adj2" fmla="val 50000"/>
              <a:gd name="adj3" fmla="val 49363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2" name=""/>
          <p:cNvSpPr/>
          <p:nvPr/>
        </p:nvSpPr>
        <p:spPr>
          <a:xfrm>
            <a:off x="3024360" y="1844640"/>
            <a:ext cx="374328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Pl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40000" y="1484280"/>
            <a:ext cx="442584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Attention Subsyste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1440" y="1844640"/>
            <a:ext cx="4426200" cy="324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Persistent Goal Hierarch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3" idx="2"/>
            <a:endCxn id="432" idx="2"/>
          </p:cNvCxnSpPr>
          <p:nvPr/>
        </p:nvCxnSpPr>
        <p:spPr>
          <a:xfrm flipV="1" rot="16200000">
            <a:off x="4552200" y="131040"/>
            <a:ext cx="3960" cy="6445800"/>
          </a:xfrm>
          <a:prstGeom prst="curvedConnector5">
            <a:avLst>
              <a:gd name="adj1" fmla="val -24250000"/>
              <a:gd name="adj2" fmla="val 50000"/>
              <a:gd name="adj3" fmla="val -24250000"/>
            </a:avLst>
          </a:prstGeom>
          <a:ln w="28440">
            <a:solidFill>
              <a:srgbClr val="3e3e5c"/>
            </a:solidFill>
            <a:miter/>
            <a:tailEnd len="lg" type="triangle" w="lg"/>
          </a:ln>
        </p:spPr>
      </p:cxnSp>
      <p:sp>
        <p:nvSpPr>
          <p:cNvPr id="445" name=""/>
          <p:cNvSpPr/>
          <p:nvPr/>
        </p:nvSpPr>
        <p:spPr>
          <a:xfrm>
            <a:off x="2340000" y="3537000"/>
            <a:ext cx="4427640" cy="323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99"/>
                </a:solidFill>
                <a:latin typeface="Arial"/>
                <a:ea typeface="Arial"/>
              </a:rPr>
              <a:t>Episodic Memo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46" name=""/>
          <p:cNvCxnSpPr/>
          <p:nvPr/>
        </p:nvCxnSpPr>
        <p:spPr>
          <a:xfrm rot="5400000">
            <a:off x="3042720" y="3483000"/>
            <a:ext cx="469080" cy="2160"/>
          </a:xfrm>
          <a:prstGeom prst="curvedConnector5">
            <a:avLst>
              <a:gd name="adj1" fmla="val 49769"/>
              <a:gd name="adj2" fmla="val 4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7" name=""/>
          <p:cNvCxnSpPr/>
          <p:nvPr/>
        </p:nvCxnSpPr>
        <p:spPr>
          <a:xfrm rot="5400000">
            <a:off x="5454000" y="3517920"/>
            <a:ext cx="469080" cy="2160"/>
          </a:xfrm>
          <a:prstGeom prst="curvedConnector5">
            <a:avLst>
              <a:gd name="adj1" fmla="val 49769"/>
              <a:gd name="adj2" fmla="val 4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8" name=""/>
          <p:cNvCxnSpPr/>
          <p:nvPr/>
        </p:nvCxnSpPr>
        <p:spPr>
          <a:xfrm rot="5400000">
            <a:off x="6066720" y="2221920"/>
            <a:ext cx="469080" cy="2520"/>
          </a:xfrm>
          <a:prstGeom prst="curvedConnector5">
            <a:avLst>
              <a:gd name="adj1" fmla="val 49769"/>
              <a:gd name="adj2" fmla="val 5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49" name=""/>
          <p:cNvCxnSpPr/>
          <p:nvPr/>
        </p:nvCxnSpPr>
        <p:spPr>
          <a:xfrm rot="5400000">
            <a:off x="2285280" y="3482640"/>
            <a:ext cx="469080" cy="2520"/>
          </a:xfrm>
          <a:prstGeom prst="curvedConnector5">
            <a:avLst>
              <a:gd name="adj1" fmla="val 49769"/>
              <a:gd name="adj2" fmla="val 50000"/>
              <a:gd name="adj3" fmla="val 49769"/>
            </a:avLst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sp>
        <p:nvSpPr>
          <p:cNvPr id="450" name=""/>
          <p:cNvSpPr/>
          <p:nvPr/>
        </p:nvSpPr>
        <p:spPr>
          <a:xfrm flipV="1">
            <a:off x="5904000" y="2492280"/>
            <a:ext cx="0" cy="1260720"/>
          </a:xfrm>
          <a:prstGeom prst="line">
            <a:avLst/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Architecture Summary and “Two Minds”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cxnSp>
        <p:nvCxnSpPr>
          <p:cNvPr id="452" name=""/>
          <p:cNvCxnSpPr/>
          <p:nvPr/>
        </p:nvCxnSpPr>
        <p:spPr>
          <a:xfrm flipV="1" rot="10800000">
            <a:off x="6587280" y="1628280"/>
            <a:ext cx="1080" cy="829440"/>
          </a:xfrm>
          <a:prstGeom prst="curvedConnector2">
            <a:avLst/>
          </a:prstGeom>
          <a:ln w="28440">
            <a:solidFill>
              <a:srgbClr val="3e3e5c"/>
            </a:solidFill>
            <a:miter/>
            <a:headEnd len="lg" type="triangle" w="lg"/>
            <a:tailEnd len="lg" type="triangle" w="lg"/>
          </a:ln>
        </p:spPr>
      </p:cxnSp>
      <p:sp>
        <p:nvSpPr>
          <p:cNvPr id="453" name=""/>
          <p:cNvSpPr/>
          <p:nvPr/>
        </p:nvSpPr>
        <p:spPr>
          <a:xfrm flipH="1" rot="1478400">
            <a:off x="5651280" y="297000"/>
            <a:ext cx="2341440" cy="2412720"/>
          </a:xfrm>
          <a:custGeom>
            <a:avLst/>
            <a:gdLst>
              <a:gd name="textAreaLeft" fmla="*/ 360 w 2341440"/>
              <a:gd name="textAreaRight" fmla="*/ 2342160 w 2341440"/>
              <a:gd name="textAreaTop" fmla="*/ 0 h 2412720"/>
              <a:gd name="textAreaBottom" fmla="*/ 2413080 h 2412720"/>
            </a:gdLst>
            <a:ahLst/>
            <a:rect l="textAreaLeft" t="textAreaTop" r="textAreaRight" b="textAreaBottom"/>
            <a:pathLst>
              <a:path w="21600" h="21600">
                <a:moveTo>
                  <a:pt x="2842" y="11425"/>
                </a:moveTo>
                <a:arcTo wR="-7983" hR="-7983" stAng="10530595" swAng="-14253308"/>
                <a:lnTo>
                  <a:pt x="5737" y="20340"/>
                </a:lnTo>
                <a:arcTo wR="10800" hR="10800" stAng="7077287" swAng="14253308"/>
                <a:lnTo>
                  <a:pt x="24259" y="9743"/>
                </a:lnTo>
                <a:lnTo>
                  <a:pt x="20484" y="14161"/>
                </a:lnTo>
                <a:lnTo>
                  <a:pt x="16067" y="10386"/>
                </a:lnTo>
                <a:close/>
              </a:path>
            </a:pathLst>
          </a:custGeom>
          <a:solidFill>
            <a:srgbClr val="b0abc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1521000"/>
            <a:ext cx="82296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hysical Volume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This is my leg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I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dentify the 3D volume of the robot representing SBR and model its capabilitie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Capabilities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am good at thi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task decomposi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Planning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„I usually hit the goal in 30% of all cases.“</a:t>
            </a:r>
            <a:br>
              <a:rPr sz="1200"/>
            </a:br>
            <a:r>
              <a:rPr b="0" lang="en-US" sz="1200" spc="-1" strike="noStrike">
                <a:solidFill>
                  <a:srgbClr val="3e3e5c"/>
                </a:solidFill>
                <a:latin typeface="Tahoma"/>
              </a:rPr>
              <a:t>P</a:t>
            </a: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rformance statistics of plans perform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Intention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”I currently try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the goals currently pursued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Go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ould like to be to do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active “Persistent Goal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Soci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Other group members respect me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Role of self in group activitie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Behavior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ually react like this.“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ings of past SBR ac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Emotion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am happy to hear the new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Introspection into current emotions and historic model of emotions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Histor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used to do a lot of this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pisodic Memory recorded SBR past actions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Terminological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know that a penguin is not a bird.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Export the Description Logic TBox into a 2d scene diagram.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3333"/>
              </a:buClr>
              <a:buFont typeface="Wingdings" charset="2"/>
              <a:buChar char=""/>
              <a:tabLst>
                <a:tab algn="l" pos="4487760"/>
                <a:tab algn="l" pos="7346880"/>
              </a:tabLst>
            </a:pP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Flow of “Thoughts” Self-Model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3e3e5c"/>
                </a:solidFill>
                <a:latin typeface="Tahoma"/>
              </a:rPr>
              <a:t>“I was surprised by this event”</a:t>
            </a:r>
            <a:br>
              <a:rPr sz="1200"/>
            </a:br>
            <a:r>
              <a:rPr b="0" lang="en-US" sz="1000" spc="-1" strike="noStrike">
                <a:solidFill>
                  <a:srgbClr val="3e3e5c"/>
                </a:solidFill>
                <a:latin typeface="Tahoma"/>
              </a:rPr>
              <a:t>Short-term memory (“time-line”) of “mental events”</a:t>
            </a:r>
            <a:endParaRPr b="0" lang="en-US" sz="1000" spc="-1" strike="noStrike">
              <a:solidFill>
                <a:srgbClr val="3e3e5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Self-Models and Self-Referentiality</a:t>
            </a:r>
            <a:endParaRPr b="0" lang="en-US" sz="2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2349360"/>
            <a:ext cx="298764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5280" y="5300640"/>
            <a:ext cx="2987640" cy="39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2:24:09Z</dcterms:created>
  <dc:creator>Frank Bergmann</dc:creator>
  <dc:description/>
  <dc:language>en-US</dc:language>
  <cp:lastModifiedBy>fraber</cp:lastModifiedBy>
  <dcterms:modified xsi:type="dcterms:W3CDTF">2015-07-21T18:54:46Z</dcterms:modified>
  <cp:revision>170</cp:revision>
  <dc:subject/>
  <dc:title>]project-open[ Project Rollout Methodology</dc:title>
</cp:coreProperties>
</file>